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FE34-024E-47F6-B7E8-24E314CB412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8316-E1C6-4366-B4D7-7B27C94A97B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E9EC-1656-4816-9A0F-AA5A3725B0B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6708-CF19-4F2E-8761-94946E984E0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CA1-6E3F-4A7F-99BE-6502FB18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63D-2AD7-42E0-98CC-3A846614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83C-F597-4DBF-88B2-0B6C72A8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F29-F575-4100-92C6-27F84509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2C9-E7F9-4C04-A348-56FF7F91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BF5-10DE-4D3A-9FCA-7BBF54EA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DF5-C499-4510-B8C1-6C645593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636-775E-4D07-978D-61F4FD48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5C8-1485-47F7-AD98-1310FB2A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66B-6E2B-4EDE-8BD6-6D77D9A5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8E7-0AAF-48C7-93F2-D1BC35BA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A08-87DD-48A4-9A72-88185132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20F4-8DF3-4EC2-BB0E-A57687CF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0A85-798C-480F-989B-B94972D8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BA2B-9125-4624-9919-D0CD0C75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9E2F-9299-4D17-BE96-F30A88F3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B156-32FD-4457-A747-6546779E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F93D-B031-43FC-8EA0-4840EA10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5560-84CE-437C-B89C-82F480E5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3C7A-70B1-4E82-9AC3-B679956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8C8C-DA88-4BAA-B2FA-E8BA4492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C2B5-B69C-4B35-8369-D618B853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4B71-6226-4B0D-A0EA-EF380367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140E-7B2D-4356-A686-D7EBCF3D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4" descr=""/>
          <p:cNvPicPr/>
          <p:nvPr/>
        </p:nvPicPr>
        <p:blipFill>
          <a:blip r:embed="rId2"/>
          <a:stretch/>
        </p:blipFill>
        <p:spPr>
          <a:xfrm>
            <a:off x="-6480" y="0"/>
            <a:ext cx="915048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DC82-81D8-4A40-88CA-D5A325C320B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Imagen 7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3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2" descr="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DF99-9723-4BDA-B951-912FF4EDF89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n 2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n 7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3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n 2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51436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7120" y="2584440"/>
            <a:ext cx="7886520" cy="7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000" spc="-1" strike="noStrike">
              <a:solidFill>
                <a:srgbClr val="000000"/>
              </a:solidFill>
              <a:latin typeface="Gotham Medium"/>
              <a:ea typeface="Gotham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9960" y="595080"/>
            <a:ext cx="8315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9960" y="1250640"/>
            <a:ext cx="831528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2280" y="1136520"/>
            <a:ext cx="829296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2280" y="1900080"/>
            <a:ext cx="8292960" cy="29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4:35:21Z</dcterms:created>
  <dc:creator>Usuario de Microsoft Office</dc:creator>
  <dc:description/>
  <dc:language>en-US</dc:language>
  <cp:lastModifiedBy>Patricia Barrios Molina</cp:lastModifiedBy>
  <dcterms:modified xsi:type="dcterms:W3CDTF">2025-03-28T16:08:45Z</dcterms:modified>
  <cp:revision>33</cp:revision>
  <dc:subject/>
  <dc:title>Presentación de PowerPoint</dc:title>
</cp:coreProperties>
</file>