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DAA0-6351-4D59-AD5C-11E7DC7B451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4322-6ED7-4941-ABC6-46E9723B6FE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5B2E-A975-4634-B1A3-60D4BA6F4D4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FA4A-62BE-4C63-A85D-56606A460CF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45DF3-B926-449B-97ED-0B49266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1A250-63AB-447F-8CEF-BE3644EB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7BEB7-3725-4668-A568-069DD1E8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20EE6-47CF-4235-8F8E-8FE37497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0BEF-AA12-430D-9CD7-A4F10B07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D34AC-F2BE-4362-BC78-51135BD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356A-F8E7-47CB-A461-38AB8879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793C-C4F7-42C2-91BD-EE2384C2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A8426-4ACB-472F-97B1-63D90CFB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C129-2E5C-4FE3-805D-1F72C5D2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EE4B7-5BA1-430E-B975-0D22940C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63874-AC65-4321-B297-DFA44F05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E46CC-B460-425E-A163-CDE32D2A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B3591-93D9-4171-895E-2085E9E1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2DA25-6CDD-4205-A7F4-C92B0654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8BFF-2AE3-4F4F-8771-E6EA6396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E4A7-C45B-47DD-8012-487E7DB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6248-7147-4F48-9E16-DC11B77A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CCDE0-3113-41DF-815D-8BB79DFA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D712B-BA12-47C9-985B-60959FAC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6650-2516-496B-BF97-07A18B78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76CFE-C5FA-41A1-B037-2B8A1D64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190FF-F13A-40F4-BE21-581C2167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B3E8-7B2B-4D92-B47E-528E0236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1EC19-7CD8-4BCA-9DFD-A47FF6E8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FCC16-150B-4AE5-A78C-598E560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C15CF-D718-4B65-BF17-1E9CB3F5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8D64-6438-49BB-A990-569DBAB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F8A9B-91AA-48D4-BBCD-34F213B7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52B4B-5016-4ACD-A7B8-1307753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B94-68B8-467C-89FF-D09AB322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436C5-F919-499E-BB9F-0B23B71E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7F59F-0059-4FC6-B824-E95DBE49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20022-91CF-45E2-BBFB-0229E02E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FA8CA-32EB-4A8B-855D-C0079CE0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60C7C-659C-4E05-A7AA-1DC186D4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ABBB4-4089-47F3-A01B-51971CED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050A0-F02A-47FA-98DE-36C9E871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2E13C-FEE2-47C1-BAA5-998FF3EB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0EA72-D628-4253-BAD1-57B75E4D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1C5DA-B048-4A33-BE2B-031064BC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EF7-FED6-4116-8B87-8D94BCF8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7255-BB1D-48FA-B65B-F2EAE24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B406E-D8C0-4AAD-B4E0-C36A0BAF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F9BD1-B0EE-4C7C-B938-BCE2614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A6096-331E-48C4-B795-43AB99C7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5E1B-EFA6-4E76-A9B2-0FF28294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60D4E-4837-48C4-8108-FE55361A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C07D3-8FBB-4632-B866-63EC3D66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555F6-209A-4E4E-9507-794F6483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36D57-D8BF-4490-8BBE-A24C23C1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325E9-3A41-46F5-924A-B0EBCDE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D44-6790-44D8-A6DA-AEEFD851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0CD9E-FA14-4ED5-A569-3D05344E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5274D-D9F6-48C7-8578-CB69F73B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A782D-2F72-4BBD-9B41-F5E5BBD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E435C-0D17-4C6A-9404-B0A9C3B5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2A02C-F328-443F-AA04-5B624ED6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9B5F8-0101-4D8D-9D28-8C19EF8D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9F7A6-AFCF-4D3F-B64F-D0DC11CD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12718-482F-42C6-BC26-2CD8A30E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FAA57-95F4-425D-A218-EB9FDC7B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4C611-80F7-4EC9-BC67-65B0C694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027-188E-46B3-8130-B6DA5431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B19E9-48E5-494E-A276-E473C4B6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57271-16CB-4B50-91BB-B470747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57AB1-C827-4C44-A6D1-E53EA51A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C58CD-01AE-49B3-9A61-60C0962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14CD7-24CF-4C6A-8110-26D7DE2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1E3F6-BEB0-482C-97E6-5E6FE65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29616-6AA2-41EC-BBB5-08684ED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81970-6B22-4E7C-A705-C8A14900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AAF0D-DF18-46F5-AA8F-CF8F805B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22E3E-CAA1-4DDD-AC42-72960884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2B0-3E65-4A38-A083-DE8E8CEF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DB138-3384-4FD4-BA20-C7641DB7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DD4C1-C417-481F-AE5F-4343A993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C6D91-A1CB-4626-A1AC-B8DAA3B7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2D02D-2664-498B-A440-D212199A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2C00B-730E-4A5E-8F62-DB2CCBCE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B066F-6FEB-435D-897C-53E5B1B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F2722-2180-4A41-9CF6-3EFE1ECE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EC71-2C3A-473A-9CEB-3CF0C80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5586E-929E-4825-82C2-532BC55B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3CA3B-6DEA-4B9D-B82F-94A73AAC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FA1-E29E-4191-964F-BEB8D0A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689C4-C659-4F20-A5CC-E2EA31DA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06D84-D707-4882-961C-B985881D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D322E-5150-4C5D-9D25-3AD4E103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B27FF-4AEE-406E-AF68-B58E60C6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A87D2-4C34-424F-93CD-784D7EC7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41999-FEE5-4BD9-B54A-A7631319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BBC93-33DA-4EFC-8585-48467058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869C6-3AFD-45FF-8CC3-39C0D425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E3A12-BBCD-4FC0-9D01-E4B89386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8E39F-5738-46FC-9127-AA12BDBC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60B-0F4C-486D-AF7D-4192BC41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3B6F0-996A-4B78-BFF3-51034FE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78940-5AC9-4554-A53F-46FBE5BA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8AC2A-FB70-4ADB-B857-4B422093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266F7-B312-4D11-B0FF-F18CFD83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919CF-4EDB-4DDE-8817-EF68D07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47A5E-0356-4BDF-8384-37838CA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FEB00-07F5-4092-B732-FABEA485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E18BD-F915-4017-9EDF-9824DD2E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81564-0C19-4621-992C-5B282E24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DE4EA-0367-456A-8437-5B027B2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8BB-AAF7-4393-8B26-1A4C51CF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F5863-DB60-491B-89F5-D039546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58D68-041E-43AA-BCED-F1573F2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50564-E275-461C-A61A-C1A49A5D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B4EC9-2D11-4127-A9DB-54751A14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3B423-0752-41B6-81D0-E0395959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C53DE-C173-4B3E-926E-843324FC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2C170-A9D5-45E2-A39F-6C37C38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9E595-F7EA-4541-8AF6-D802358C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05318-2F50-4478-8277-F97F87C9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244DF-B52F-45EC-B822-C9DE6556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8B6-1AFD-4A07-AC3F-4A075D68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78955-99A6-4256-839D-E409A9FF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27B4D-25B9-45D6-9034-C0D921E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9DF8D-E411-404A-BC11-2245B32C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648AD-8594-4D46-B61A-6BF2728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1BA86-5EAD-465B-8E70-ED8FAE6D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569AA-4CC0-43D9-85D5-377F561F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A1CEB-7415-4F7A-B325-DD3D52B1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8F7-446A-45E8-B7C0-1608FEE4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1D2-286D-4301-8F75-14335356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C6E-5682-4EB3-90D2-FFD5DBB3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4B06-1B87-4658-B019-07D89921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A2ED-6072-4EE7-80EC-1E11797F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0221-5D8B-443C-8CDE-B5AE9F59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9C6-83A4-4033-8E6A-A3EABFF7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98F6-5AEE-4A63-9D32-40CB142A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F0F3-509B-4E00-B344-C723EF3F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8018-2F84-4329-98D4-C0524015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5DE8-0E32-4E00-8F5D-7E4F96FE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30B-8B34-4CEE-B7E3-756A3099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625-D032-456A-9C9E-D2827AED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F48F-1615-4F13-9DAF-2781AE54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B5C-C784-4CD3-989A-F4A91C7C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5D14-72FA-42C1-8C0B-A7D94162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E1F1-517B-4486-B7F0-D0939B97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32DB-7947-477B-AF75-49F79B93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D01D-2A9F-4D5B-BB2E-61E0A90B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0EE8-20AA-4089-8C35-01E1157B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23CE-A09A-4820-B8D1-7752AB3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6A27-134B-4A15-991F-96DF434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A845-7151-4D7B-B45E-F11575E9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3136-121D-4E16-B72D-09A6C53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A91A-5391-455C-82AB-C0E0862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8443-67C1-45DB-B314-779646ED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9B37-F23A-4A7A-BC5C-B329B740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E9CC-5564-43BB-901E-4F9B18A8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B5D57-F880-42DB-9CC9-FDE800BF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BD85-61F2-4533-A9B9-3F5C6627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1923-D57C-4B13-B417-6C0558B7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BFE6-1868-4598-B7DC-9438550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C4C2-7FDD-4205-8A43-A15871A9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E28B-AC6C-4842-923C-0ADD373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C4F2-6C2E-411D-8814-1ECC0958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8756-3BB9-4325-BF04-EB660F0E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5CE4-17F1-410F-8409-474FAADF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46E53-90F6-47B6-A418-543C01AA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4B46-C383-4009-A6E0-DC35682A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F613D-FFF4-4AA8-9D2E-02268CCD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F0E11-8AE3-49DE-85A2-954F9F19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64AD1-4079-4E1F-82F3-7EF817AB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519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C2DE-69A7-49A0-BC81-4A5BD0BB833A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7E0A-5D18-4128-B448-ECF98078BFD8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4EA7-A95B-4272-BC92-8129743C3193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B5EE-5515-447B-B0AC-7AF2201692EE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FDD5-4667-4D27-A3C4-C935A178BEEE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5D6-BB3A-4002-9D1E-1E2688EB43F9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17E8-06E4-433D-B677-1048CAA5340D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CA6-6227-4E15-A647-E62705688690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38A7-880F-49BA-82F1-4F54EC43ED29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3CAB-C8AE-4461-8DB0-0584B19D7184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D4E0-CBFA-4819-913D-5870628A5EE7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7D61-1DB4-4B7D-8C5A-71B66A1051B5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9E0E-9335-4397-831B-B1BAE73083AE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6DB5-8FBB-40C8-B839-D156BFDE8C50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230F-1BC2-4E22-8A92-0DA20118B791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B253-E6CA-4CE9-BA35-6BF0E1F1BD8B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2165-57CC-4656-B74A-2727583F1177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684D-C916-454C-9F07-FADBEF1F1095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98DC-25D4-4BD0-90D3-C8A6D0EC418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74240" cy="390240"/>
          </a:xfrm>
          <a:prstGeom prst="rect">
            <a:avLst/>
          </a:prstGeom>
          <a:ln w="0">
            <a:noFill/>
          </a:ln>
        </p:spPr>
      </p:pic>
      <p:pic>
        <p:nvPicPr>
          <p:cNvPr id="41" name="Imagen 10" descr=""/>
          <p:cNvPicPr/>
          <p:nvPr/>
        </p:nvPicPr>
        <p:blipFill>
          <a:blip r:embed="rId3"/>
          <a:stretch/>
        </p:blipFill>
        <p:spPr>
          <a:xfrm>
            <a:off x="7201080" y="165240"/>
            <a:ext cx="156492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7" descr=""/>
          <p:cNvPicPr/>
          <p:nvPr/>
        </p:nvPicPr>
        <p:blipFill>
          <a:blip r:embed="rId2"/>
          <a:stretch/>
        </p:blipFill>
        <p:spPr>
          <a:xfrm>
            <a:off x="-30240" y="4772160"/>
            <a:ext cx="9215640" cy="39024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255600" y="443376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Gotham Medium"/>
                <a:ea typeface="Gotham Medium"/>
              </a:rPr>
              <a:t>Casa Central</a:t>
            </a:r>
            <a:r>
              <a:rPr b="0" lang="es-CL" sz="800" spc="-1" strike="noStrike">
                <a:solidFill>
                  <a:srgbClr val="000000"/>
                </a:solidFill>
                <a:latin typeface="Gotham Book"/>
                <a:ea typeface="Gotham Book"/>
              </a:rPr>
              <a:t>: Toesca 1783 </a:t>
            </a:r>
            <a:r>
              <a:rPr b="0" lang="es-CL" sz="800" spc="-1" strike="noStrike">
                <a:solidFill>
                  <a:srgbClr val="000000"/>
                </a:solidFill>
                <a:latin typeface="Gotham Medium"/>
                <a:ea typeface="Gotham Medium"/>
              </a:rPr>
              <a:t>| Mesa Central: </a:t>
            </a:r>
            <a:r>
              <a:rPr b="0" lang="es-CL" sz="800" spc="-1" strike="noStrike">
                <a:solidFill>
                  <a:srgbClr val="000000"/>
                </a:solidFill>
                <a:latin typeface="Gotham Book"/>
                <a:ea typeface="Gotham Book"/>
              </a:rPr>
              <a:t>2 2582 6000</a:t>
            </a:r>
            <a:br>
              <a:rPr sz="800"/>
            </a:br>
            <a:r>
              <a:rPr b="0" lang="es-CL" sz="800" spc="-1" strike="noStrike">
                <a:solidFill>
                  <a:srgbClr val="000000"/>
                </a:solidFill>
                <a:latin typeface="Gotham Medium"/>
                <a:ea typeface="Gotham Medium"/>
              </a:rPr>
              <a:t>La Serena</a:t>
            </a:r>
            <a:r>
              <a:rPr b="0" lang="es-CL" sz="800" spc="-1" strike="noStrike">
                <a:solidFill>
                  <a:srgbClr val="000000"/>
                </a:solidFill>
                <a:latin typeface="Gotham Book"/>
                <a:ea typeface="Gotham Book"/>
              </a:rPr>
              <a:t>: Av. Francisco de Aguirre 0405</a:t>
            </a:r>
            <a:r>
              <a:rPr b="0" lang="es-CL" sz="800" spc="-1" strike="noStrike">
                <a:solidFill>
                  <a:srgbClr val="000000"/>
                </a:solidFill>
                <a:latin typeface="Gotham Medium"/>
                <a:ea typeface="Gotham Medium"/>
              </a:rPr>
              <a:t> | Mesa Central</a:t>
            </a:r>
            <a:r>
              <a:rPr b="0" lang="es-CL" sz="800" spc="-1" strike="noStrike">
                <a:solidFill>
                  <a:srgbClr val="000000"/>
                </a:solidFill>
                <a:latin typeface="Gotham Book"/>
                <a:ea typeface="Gotham Book"/>
              </a:rPr>
              <a:t>: 51 247 91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n 10" descr=""/>
          <p:cNvPicPr/>
          <p:nvPr/>
        </p:nvPicPr>
        <p:blipFill>
          <a:blip r:embed="rId3"/>
          <a:stretch/>
        </p:blipFill>
        <p:spPr>
          <a:xfrm>
            <a:off x="7201080" y="165240"/>
            <a:ext cx="156492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9029-1592-4858-9682-215E72A8B7D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n 7" descr=""/>
          <p:cNvPicPr/>
          <p:nvPr/>
        </p:nvPicPr>
        <p:blipFill>
          <a:blip r:embed="rId2"/>
          <a:stretch/>
        </p:blipFill>
        <p:spPr>
          <a:xfrm>
            <a:off x="1440" y="1440"/>
            <a:ext cx="9168120" cy="51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C12007C-A627-4352-866D-B88E249D9716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62431BE-CD72-4181-BA8A-78C327AA4E16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74240" cy="390240"/>
          </a:xfrm>
          <a:prstGeom prst="rect">
            <a:avLst/>
          </a:prstGeom>
          <a:ln w="0">
            <a:noFill/>
          </a:ln>
        </p:spPr>
      </p:pic>
      <p:pic>
        <p:nvPicPr>
          <p:cNvPr id="199" name="Imagen 10" descr=""/>
          <p:cNvPicPr/>
          <p:nvPr/>
        </p:nvPicPr>
        <p:blipFill>
          <a:blip r:embed="rId3"/>
          <a:stretch/>
        </p:blipFill>
        <p:spPr>
          <a:xfrm>
            <a:off x="7201080" y="165240"/>
            <a:ext cx="156492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Imagen 7" descr=""/>
          <p:cNvPicPr/>
          <p:nvPr/>
        </p:nvPicPr>
        <p:blipFill>
          <a:blip r:embed="rId2"/>
          <a:stretch/>
        </p:blipFill>
        <p:spPr>
          <a:xfrm>
            <a:off x="1440" y="1440"/>
            <a:ext cx="9168120" cy="51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1CE9-6EAC-4552-8CB0-7613ECC37128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4DF-8F93-4D28-9CEE-72A3D77F35B2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B102-4222-41D6-A466-DCA335B8E776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5118-250E-4924-9320-45B533DB7409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96600" y="4554000"/>
            <a:ext cx="788652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000" spc="-1" strike="noStrike">
              <a:solidFill>
                <a:srgbClr val="000000"/>
              </a:solidFill>
              <a:latin typeface="Gotham Medium"/>
              <a:ea typeface="Gotham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9960" y="595080"/>
            <a:ext cx="831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99960" y="1250640"/>
            <a:ext cx="8315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22280" y="644040"/>
            <a:ext cx="829296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22280" y="1215720"/>
            <a:ext cx="829296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CuadroTexto 1"/>
          <p:cNvSpPr/>
          <p:nvPr/>
        </p:nvSpPr>
        <p:spPr>
          <a:xfrm>
            <a:off x="4029120" y="250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Imagen 1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4:35:21Z</dcterms:created>
  <dc:creator>Usuario de Microsoft Office</dc:creator>
  <dc:description/>
  <dc:language>en-US</dc:language>
  <cp:lastModifiedBy>Patricia Barrios Molina</cp:lastModifiedBy>
  <dcterms:modified xsi:type="dcterms:W3CDTF">2025-03-28T15:41:17Z</dcterms:modified>
  <cp:revision>34</cp:revision>
  <dc:subject/>
  <dc:title>Presentación de PowerPoint</dc:title>
</cp:coreProperties>
</file>