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8F50-0528-4210-8FE5-B7E62A74A591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Marcador de número de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C269-FE4B-4C7B-8F12-517DDDFB7888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Marcador de número de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56B2-F0FE-40A2-893C-1882B03DDC61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Marcador de número de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DAB1-E51F-4BB5-8322-F1991A3CFCCA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7852A-1307-4B67-9425-81096960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30D99-B395-482F-AE87-224EE8B8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1492A-B2F2-4715-8CA6-70F64FB8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70340-138B-4B3B-8E35-C79E78E3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327B3-CC39-40F9-A1ED-09549DA8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4DA6C-E61C-413A-9471-1592D5F6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AE1A0-29F2-465D-A80C-131A5A60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636A2-A4F6-40A3-9414-618BFF365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12545-C61A-4B8F-88BF-F2DA632E1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0B5C6-FE02-470C-8370-862A63B0D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4D770-0EFA-4BDB-8CE9-BE84F902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6370D-1360-41C9-9E86-9449CF5C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44925-2D25-4392-A69D-862A3F60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7F347-AB66-4A35-926F-56839950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55E56-6A1E-4684-96D5-0CEF7BE0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435C7-9EEB-4C9B-AD82-86EC4CB9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4A78C-D14C-4123-982C-9C364B3E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A060A-73FD-4332-BD5B-2954F501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DB7FF-22D7-459E-98E9-B693C5C6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30539-9ADB-4255-8B5B-9FFF0498B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C2FDF-3F53-4ED0-895D-366DFE81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6A658-4F0C-4F8E-8B2F-398FBDD37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C5C80-A195-497E-8EFD-743C2E09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D4383-BF7A-4D43-A702-4D117644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B06F4-1176-4F7F-9C89-4357CF11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D7FDA-0AA8-428F-8C89-A86BDCC0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F09B5-E05D-49D1-8D5A-1F30E79C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2797F-2F8E-445A-B2CC-23A5318C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15305-3BF9-4C2B-829F-F642BC30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02D6F-E889-44B8-A95D-3CDC912E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F4D7-882C-4FD0-A963-98B08BA6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ADA2A-E7FE-4163-870E-D3F56E89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16985-D915-44BF-BA9B-18C2EB25A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0CE34-2F01-4AB6-8330-08A731E9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F254B-7F32-4E58-BF43-3137EF97D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70842-4AAC-4300-B5D1-1D42E1EC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94A29-80D4-4901-AC69-9D85D7C2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E0179-8FC5-4709-B946-BE1E2DF4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F117A-4917-4944-9114-D162F45D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97718-1877-4C71-8D46-FBE0A0D9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276DA-C6F4-4B56-9C4D-F4DBACCB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F584-D6FE-47B4-8E84-B6E75AE1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99C9D-A11B-4161-A797-9774FBC8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277BA-F487-481E-88E0-4C829B9D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2E6EF-0B72-460E-A357-500B582E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62C36-9304-4A57-97FF-1CA14F6A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C32F3-3B12-4768-B06F-BBF16C49C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0E639-3CB8-4C1E-88B7-3A836C5FA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1A85D-6D2B-40D9-BAEC-979886D7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1F68C-7E93-4C99-BBCD-FE83DAE6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75B2B-1C00-46B9-9E2D-C44B55EF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FA95E-CEC0-49C4-B3D1-0BC495D4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75F6-35B2-413D-B2BE-DCB03F1D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3B01C-76D3-40D4-9894-6DA15325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5A53C-7BD1-4275-B9A5-0E0B77AB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5E4E0-3DE4-4BF5-8377-BBEB3208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19735-BEE6-44E9-8872-9841EFE8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A2E75-B552-411F-97FA-15038EE1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3A6A8-2CDB-48D3-90BD-9201E33A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45CE2-5808-41B6-ACD7-0514561B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0B3CE-4D90-4FB2-BF01-66CAEE9F5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AF8F3-11EB-4E1C-A156-CB2F6EC8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2B01D-546B-426A-B2DA-3281E527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2F51-A4ED-40C5-A6D7-F842E4DE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C2583-7B4F-40DF-9C36-8460ECC3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542F7-EC4F-4FFA-9825-2E37034B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15ACD-C8B3-4165-943A-F35BC9F9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24EA1-F8D1-4540-B61D-A03ADBD5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78985-CF33-46A3-9194-266A4C99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1FA65-117E-4B3D-9529-5A1EDB10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9E926C-AF78-4532-9654-DA1C3AB6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966AA-F3B0-4A11-A98E-9D0EBD2D4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1B040-0A3B-4E58-963D-4C0EEF7C8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AFD8D-45F4-4FAC-9A97-E558DF07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B5B0-B636-4214-97BA-6468F206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77429-5CED-4F4D-BDA4-E4C3F8E8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AF881-9EC3-454E-A421-B89AEB1F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F266B-28F0-4925-884D-0612F7FF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9943A-EFA0-42CA-A72F-1D827AF5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366A2-F3BE-48A1-9055-4F57F1C8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1E9AA-FE62-47EA-A848-27037224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7257E-3A13-4C8E-88E6-51B7C67A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8F1D7-8731-4426-A5FB-06367A71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6A12F-89F3-4348-9597-6078A417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63A71-D110-4AA9-ACFB-7919373F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34B7-A625-4C4E-A99B-46E7BA10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449E2-1F8D-4B46-9EB0-F7CD998FC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0D7E2-F7DE-4A32-AA35-0D46C658E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60261-D91D-42D4-8345-53EACF7F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AF3BB7-E4B9-48ED-8EA8-1C6BC406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D8CE6D-7208-482C-934E-855F1BFE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2CE19-4A1D-4AA7-B1AF-832415FC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55C6B-651B-4AFD-9A21-94AC585A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020B7D-4FCE-48AD-AD96-E3AC3667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71FB9-6FEA-4B1B-AF9B-C24E014A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C6BA40-5A2A-4760-BBDB-1E5E22BB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5EBD-5F82-4733-8E8F-38A5CEAA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F42EC4-B4AE-48C1-A5B4-38CF30D3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C4962-6CDB-4048-BA25-F6E80B09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2B229-D60C-4E92-8732-9850AD6B4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06513B-1E6D-46E8-95F5-90FC0BB7A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C5B494-88FC-45F6-A07E-7D7271F8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8D63E3-831E-4686-B593-EF0448C6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570992-3802-443D-B8EC-6B334D4A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38B5FC-15BE-4A32-A973-EED70294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A39DCD-F11D-43C2-A047-43118C4D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EF9732-451F-4CE0-8AF7-A7365578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A74A-8AC7-468C-94A3-B08D691F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EF102D-3F66-43FC-97B4-BA391BB0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0BD1D5-7B84-4FFE-8EF8-0BDCF3E5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BDE7B0-E7F6-4D72-A814-48DFA2BE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075BA8-DF08-407D-984E-1B784F41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E234CA-E02F-425F-9148-DC98DF33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71DE9E-2321-4DC6-A21A-8D5940C2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4F6169-904F-4CD8-91E1-5B71409F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FBED3D-21CF-4856-AC0C-630C780A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CBE2DE-3D51-4937-BA3A-BA3E83CD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2C058E-CFD4-4548-B5D5-E7B95AED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2DB7-24DD-400C-B1C9-1DEA275B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FC8C7E-60D1-47BA-8ECB-B3CFCD5A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C6FCFF-2B9B-437C-8FCD-C23AF936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771AD2-E8ED-473D-9AD2-72D83D0E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BEB9C6-A107-498B-82DF-47DE5932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98107F-A482-42C3-9C33-5965759D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5BDB6F-5152-4C83-A9C6-B8414AEA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F1F696-A10B-4FB7-9394-AD82AA7C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E0A3-2BB2-4397-9715-31D25E56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A648-64B2-4BD1-9DA1-92F70DC2B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06E1-7587-42D2-9D4E-9B69899E4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D34E-1579-4490-A78C-E6E5C32F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1BA3-2F0D-4DBB-B084-4203788F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64E1-E0C8-4EAD-937E-F011EAEF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10EC-F88D-4BAB-9ADD-09F28F15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AF44-9F2C-4EEC-98DE-31D14524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1123-710F-4815-A2AB-CA2B73DD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F644-A02C-4B11-B191-87EE57D3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6D76-D076-4236-A770-E7EDAD0E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305E-1C2F-451F-8E80-EC846BB3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F8A2-FB85-42ED-8A96-8EEBF34E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9C1F-2A6B-4E51-8309-75857A0A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FA57-6A74-424B-BAA5-C64E83F3B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6D1D3-206F-446F-B7DB-388BFCB8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6B97D-8BA6-4E56-A870-3EE66222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2508C-C259-48FC-B6EA-88946BBE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EAC25-3A40-4E30-83B8-DA4F63D2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FE35D-95EA-464C-A0F6-90624FBB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E524D-EDC2-4271-B401-49CE3417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6A07B-6377-45D9-AA15-7E901672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4074C-24D8-4C8A-8F9B-5697A449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A6EAE-1BFD-4E7E-9B0D-7273B32B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B948A-1DF8-48E2-B1FF-7BB5D1CD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3EE28-6F13-4EC6-BAF1-2A45A9AAD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D42C5-91E3-47F0-ADFF-BBE4AEF1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84982-3B39-4E84-85C4-BEC3AFC5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7D0FD-298A-4FD2-961E-9ACFD1E9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6890C-2792-4AA9-8E06-9312077C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B48E6-6C7D-4E96-B01B-9A32B043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CAA80-A7AC-4F18-A2B6-06053979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65DB5-D1CB-4D85-9C2D-EDA9E879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5E88A-A43B-4382-B9C9-2C5F2859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F1BE1-C676-43C4-A5B0-42E546D2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CDC6C-107A-45D2-8A68-911CD6C2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49457-79D3-4C10-8633-62053C46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60C1A-8DCF-4369-A739-26F33189E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F522E-3C3E-446E-BEC0-901724F1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862C7-8D64-4C8B-9963-6FD53FDD8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E19B4-F431-4826-976B-4D35656F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6D1CF-FD6D-46F0-9E6A-31DD14C0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n 1" descr=""/>
          <p:cNvPicPr/>
          <p:nvPr/>
        </p:nvPicPr>
        <p:blipFill>
          <a:blip r:embed="rId2"/>
          <a:stretch/>
        </p:blipFill>
        <p:spPr>
          <a:xfrm>
            <a:off x="0" y="11160"/>
            <a:ext cx="9144000" cy="548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16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17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18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1AC2-4E36-4158-9934-D40BCA97766C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19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0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1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58DE-519B-4E55-BAFB-0683B8AE49A8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2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23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24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47E4-1E12-4FA0-85B5-B6E8DFFB1435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5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6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7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05FA-8BB6-465F-9579-0F526B29C46D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28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29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0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CEF3-88FF-419A-BA26-6B486FECBAA1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3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68CD-5A80-4947-B02A-019EB2CCFBB3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2454-D68D-4CD4-B0E2-0E78D9DB486E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3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3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3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B669-FEBA-4B10-812D-230D3E0D9718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40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41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42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F9D8-5E8D-4D65-8933-3FA0A2604D44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3B59-5616-42B1-AD8E-5A7FFC0D9170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Imagen 7" descr=""/>
          <p:cNvPicPr/>
          <p:nvPr/>
        </p:nvPicPr>
        <p:blipFill>
          <a:blip r:embed="rId2"/>
          <a:stretch/>
        </p:blipFill>
        <p:spPr>
          <a:xfrm>
            <a:off x="0" y="4772160"/>
            <a:ext cx="9144000" cy="390240"/>
          </a:xfrm>
          <a:prstGeom prst="rect">
            <a:avLst/>
          </a:prstGeom>
          <a:ln w="0">
            <a:noFill/>
          </a:ln>
        </p:spPr>
      </p:pic>
      <p:pic>
        <p:nvPicPr>
          <p:cNvPr id="41" name="Imagen 10" descr=""/>
          <p:cNvPicPr/>
          <p:nvPr/>
        </p:nvPicPr>
        <p:blipFill>
          <a:blip r:embed="rId3"/>
          <a:stretch/>
        </p:blipFill>
        <p:spPr>
          <a:xfrm>
            <a:off x="7908840" y="150840"/>
            <a:ext cx="971640" cy="85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n 6" descr=""/>
          <p:cNvPicPr/>
          <p:nvPr/>
        </p:nvPicPr>
        <p:blipFill>
          <a:blip r:embed="rId2"/>
          <a:stretch/>
        </p:blipFill>
        <p:spPr>
          <a:xfrm>
            <a:off x="0" y="-7920"/>
            <a:ext cx="9144000" cy="411120"/>
          </a:xfrm>
          <a:prstGeom prst="rect">
            <a:avLst/>
          </a:prstGeom>
          <a:ln w="0">
            <a:noFill/>
          </a:ln>
        </p:spPr>
      </p:pic>
      <p:pic>
        <p:nvPicPr>
          <p:cNvPr id="79" name="Imagen 10" descr=""/>
          <p:cNvPicPr/>
          <p:nvPr/>
        </p:nvPicPr>
        <p:blipFill>
          <a:blip r:embed="rId3"/>
          <a:stretch/>
        </p:blipFill>
        <p:spPr>
          <a:xfrm>
            <a:off x="7908840" y="4137120"/>
            <a:ext cx="971640" cy="857160"/>
          </a:xfrm>
          <a:prstGeom prst="rect">
            <a:avLst/>
          </a:prstGeom>
          <a:ln w="0">
            <a:noFill/>
          </a:ln>
        </p:spPr>
      </p:pic>
      <p:sp>
        <p:nvSpPr>
          <p:cNvPr id="80" name="6 CuadroTexto"/>
          <p:cNvSpPr/>
          <p:nvPr/>
        </p:nvSpPr>
        <p:spPr>
          <a:xfrm>
            <a:off x="255600" y="4656240"/>
            <a:ext cx="500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Calibri"/>
                <a:ea typeface="Gotham Medium"/>
              </a:rPr>
              <a:t>Casa Central</a:t>
            </a:r>
            <a:r>
              <a:rPr b="0" lang="es-CL" sz="800" spc="-1" strike="noStrike">
                <a:solidFill>
                  <a:srgbClr val="000000"/>
                </a:solidFill>
                <a:latin typeface="Calibri"/>
                <a:ea typeface="Gotham Book"/>
              </a:rPr>
              <a:t>: Toesca 1783 </a:t>
            </a:r>
            <a:r>
              <a:rPr b="0" lang="es-CL" sz="800" spc="-1" strike="noStrike">
                <a:solidFill>
                  <a:srgbClr val="000000"/>
                </a:solidFill>
                <a:latin typeface="Calibri"/>
                <a:ea typeface="Gotham Medium"/>
              </a:rPr>
              <a:t>| Mesa Central: </a:t>
            </a:r>
            <a:r>
              <a:rPr b="0" lang="es-CL" sz="800" spc="-1" strike="noStrike">
                <a:solidFill>
                  <a:srgbClr val="000000"/>
                </a:solidFill>
                <a:latin typeface="Calibri"/>
                <a:ea typeface="Gotham Book"/>
              </a:rPr>
              <a:t>2 2582 6000</a:t>
            </a:r>
            <a:br>
              <a:rPr sz="800"/>
            </a:br>
            <a:r>
              <a:rPr b="0" lang="es-CL" sz="800" spc="-1" strike="noStrike">
                <a:solidFill>
                  <a:srgbClr val="000000"/>
                </a:solidFill>
                <a:latin typeface="Calibri"/>
                <a:ea typeface="Gotham Medium"/>
              </a:rPr>
              <a:t>La Serena</a:t>
            </a:r>
            <a:r>
              <a:rPr b="0" lang="es-CL" sz="800" spc="-1" strike="noStrike">
                <a:solidFill>
                  <a:srgbClr val="000000"/>
                </a:solidFill>
                <a:latin typeface="Calibri"/>
                <a:ea typeface="Gotham Book"/>
              </a:rPr>
              <a:t>: Av. Francisco de Aguirre 0405</a:t>
            </a:r>
            <a:r>
              <a:rPr b="0" lang="es-CL" sz="800" spc="-1" strike="noStrike">
                <a:solidFill>
                  <a:srgbClr val="000000"/>
                </a:solidFill>
                <a:latin typeface="Calibri"/>
                <a:ea typeface="Gotham Medium"/>
              </a:rPr>
              <a:t> | Mesa Central</a:t>
            </a:r>
            <a:r>
              <a:rPr b="0" lang="es-CL" sz="800" spc="-1" strike="noStrike">
                <a:solidFill>
                  <a:srgbClr val="000000"/>
                </a:solidFill>
                <a:latin typeface="Calibri"/>
                <a:ea typeface="Gotham Book"/>
              </a:rPr>
              <a:t>: 51 247 915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dt" idx="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DF9C-4548-4B34-957E-F234199FCDE5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Imagen 7" descr=""/>
          <p:cNvPicPr/>
          <p:nvPr/>
        </p:nvPicPr>
        <p:blipFill>
          <a:blip r:embed="rId2"/>
          <a:stretch/>
        </p:blipFill>
        <p:spPr>
          <a:xfrm>
            <a:off x="-15840" y="-360360"/>
            <a:ext cx="9177480" cy="550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F0A22803-55BD-4689-8722-58F8A1033B33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Imagen 7" descr=""/>
          <p:cNvPicPr/>
          <p:nvPr/>
        </p:nvPicPr>
        <p:blipFill>
          <a:blip r:embed="rId2"/>
          <a:stretch/>
        </p:blipFill>
        <p:spPr>
          <a:xfrm>
            <a:off x="0" y="4772160"/>
            <a:ext cx="9144000" cy="390240"/>
          </a:xfrm>
          <a:prstGeom prst="rect">
            <a:avLst/>
          </a:prstGeom>
          <a:ln w="0">
            <a:noFill/>
          </a:ln>
        </p:spPr>
      </p:pic>
      <p:pic>
        <p:nvPicPr>
          <p:cNvPr id="199" name="Imagen 10" descr=""/>
          <p:cNvPicPr/>
          <p:nvPr/>
        </p:nvPicPr>
        <p:blipFill>
          <a:blip r:embed="rId3"/>
          <a:stretch/>
        </p:blipFill>
        <p:spPr>
          <a:xfrm>
            <a:off x="7908840" y="150840"/>
            <a:ext cx="971640" cy="85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Imagen 7" descr=""/>
          <p:cNvPicPr/>
          <p:nvPr/>
        </p:nvPicPr>
        <p:blipFill>
          <a:blip r:embed="rId2"/>
          <a:stretch/>
        </p:blipFill>
        <p:spPr>
          <a:xfrm>
            <a:off x="-15840" y="-360360"/>
            <a:ext cx="9177480" cy="550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0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1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2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E8E1-3859-427F-8571-F4E011A14DFD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3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14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15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D994-08F5-4E29-A5C2-8EB5E74F5575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96600" y="4358880"/>
            <a:ext cx="7886520" cy="7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000" spc="-1" strike="noStrike">
              <a:solidFill>
                <a:srgbClr val="000000"/>
              </a:solidFill>
              <a:latin typeface="Gotham Medium"/>
              <a:ea typeface="Gotham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99960" y="595080"/>
            <a:ext cx="83152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  <a:ea typeface="Gotham Medium"/>
              </a:rPr>
              <a:t>Títul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399960" y="1250640"/>
            <a:ext cx="8315280" cy="33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Tex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22280" y="644040"/>
            <a:ext cx="829296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  <a:ea typeface="Gotham Medium"/>
              </a:rPr>
              <a:t>Títul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422280" y="1215720"/>
            <a:ext cx="8292960" cy="33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Tex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Imagen 1" descr=""/>
          <p:cNvPicPr/>
          <p:nvPr/>
        </p:nvPicPr>
        <p:blipFill>
          <a:blip r:embed="rId1"/>
          <a:stretch/>
        </p:blipFill>
        <p:spPr>
          <a:xfrm>
            <a:off x="-20520" y="-351000"/>
            <a:ext cx="9163080" cy="549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2T14:35:21Z</dcterms:created>
  <dc:creator>Usuario de Microsoft Office</dc:creator>
  <dc:description/>
  <dc:language>en-US</dc:language>
  <cp:lastModifiedBy>Patricia Barrios Molina</cp:lastModifiedBy>
  <dcterms:modified xsi:type="dcterms:W3CDTF">2025-03-28T16:10:00Z</dcterms:modified>
  <cp:revision>28</cp:revision>
  <dc:subject/>
  <dc:title>Presentación de PowerPoint</dc:title>
</cp:coreProperties>
</file>