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DA34-A694-4DDE-B560-36D6788F13F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34B8-1810-4F10-AA13-5DE51BA5780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1DEA-B454-408C-977E-E40E237D18C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ED1-D1F6-4478-993D-6338EC29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5D6-406A-446B-ACEA-C7CF925E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AE0-5220-416D-ACC4-71F06E8F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053-6B8D-4F47-898C-D2899EC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E11-F637-4C99-AC9D-3FB638EA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1E7-32F0-425F-91DA-117DFEEC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697-5E41-41FF-AA61-BDD8721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848-E616-4179-BE75-849693C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72A-6316-43EA-B6DA-D4636C4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C2D-CBCB-435D-BCB3-68A68FA3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5BF-D9AD-43DE-AE60-D9FA447B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4DB-736C-4206-ABF3-723DEED7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356B-7894-4ABC-99AC-FBFDCAA1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FBD8-EF62-4373-BF5D-633E6FA5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97C4-2215-41DF-8C02-BF7A2BF2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33D-41DD-419F-A3B9-F8F646BF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16CF-64EE-47AD-9328-53F8075F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BBE1-5014-42C9-89E4-22E8254E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9ABF-7EF5-4D5A-AEC7-DA293B45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AAB6-5938-453B-A895-ACE3B2F0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DA23-544C-4B32-A11B-F1B3198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D84C-F0B7-423E-ABBD-16DE1E80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A76-58CD-43D1-AA9F-10641C77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AA27-AF3B-4B0A-A4F6-C4B8F5CF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4240" cy="55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75DD-E725-4CBB-A9DC-E14A8E94D4D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44000" cy="390240"/>
          </a:xfrm>
          <a:prstGeom prst="rect">
            <a:avLst/>
          </a:prstGeom>
          <a:ln w="0">
            <a:noFill/>
          </a:ln>
        </p:spPr>
      </p:pic>
      <p:pic>
        <p:nvPicPr>
          <p:cNvPr id="41" name="Imagen 10" descr=""/>
          <p:cNvPicPr/>
          <p:nvPr/>
        </p:nvPicPr>
        <p:blipFill>
          <a:blip r:embed="rId3"/>
          <a:stretch/>
        </p:blipFill>
        <p:spPr>
          <a:xfrm>
            <a:off x="7908840" y="150840"/>
            <a:ext cx="97164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79" name="Imagen 10" descr=""/>
          <p:cNvPicPr/>
          <p:nvPr/>
        </p:nvPicPr>
        <p:blipFill>
          <a:blip r:embed="rId3"/>
          <a:stretch/>
        </p:blipFill>
        <p:spPr>
          <a:xfrm>
            <a:off x="7908840" y="413712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6 CuadroTexto"/>
          <p:cNvSpPr/>
          <p:nvPr/>
        </p:nvSpPr>
        <p:spPr>
          <a:xfrm>
            <a:off x="255600" y="465624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Casa Centra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Toesca 1783 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| Mesa Central: 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2 2582 6000</a:t>
            </a:r>
            <a:br>
              <a:rPr sz="800"/>
            </a:b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La Serena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Av. Francisco de Aguirre 0405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 | Mesa Centra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51 247 91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CB34-A23A-4172-A845-0AFDCD6CCA0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n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1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44000" cy="390240"/>
          </a:xfrm>
          <a:prstGeom prst="rect">
            <a:avLst/>
          </a:prstGeom>
          <a:ln w="0">
            <a:noFill/>
          </a:ln>
        </p:spPr>
      </p:pic>
      <p:pic>
        <p:nvPicPr>
          <p:cNvPr id="160" name="Imagen 10" descr=""/>
          <p:cNvPicPr/>
          <p:nvPr/>
        </p:nvPicPr>
        <p:blipFill>
          <a:blip r:embed="rId3"/>
          <a:stretch/>
        </p:blipFill>
        <p:spPr>
          <a:xfrm>
            <a:off x="7908840" y="150840"/>
            <a:ext cx="97164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n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1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96600" y="4358880"/>
            <a:ext cx="78865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960" y="595080"/>
            <a:ext cx="831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9960" y="1250640"/>
            <a:ext cx="8315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2280" y="644040"/>
            <a:ext cx="829296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2280" y="1215720"/>
            <a:ext cx="829296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4:35:21Z</dcterms:created>
  <dc:creator>Usuario de Microsoft Office</dc:creator>
  <dc:description/>
  <dc:language>en-US</dc:language>
  <cp:lastModifiedBy>Patricia Barrios Molina</cp:lastModifiedBy>
  <dcterms:modified xsi:type="dcterms:W3CDTF">2025-03-28T18:57:46Z</dcterms:modified>
  <cp:revision>35</cp:revision>
  <dc:subject/>
  <dc:title>Presentación de PowerPoint</dc:title>
</cp:coreProperties>
</file>